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FA6D-FBC2-475B-BF87-D81B7B7CB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D32A-E9AE-455C-9F1C-1BD31A15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2218-B69D-468C-A37E-A2129B970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6F0B-892F-4B65-98E1-842BED90F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1435-B570-499E-94A2-85C2F3D2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C551-D0E5-4713-9834-DECA955F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405F-D34E-4C4B-A078-210EC9AE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903C-25C3-4E87-969F-78A68F47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B134-191A-4C3B-AFD8-DC7C2F9A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0571-A0ED-45D2-BA8F-D8BA7494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42EE-70D0-4B68-B388-785D2414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CA07-1E26-45D7-9B17-F655E664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6CDD-31D7-485F-9F06-FCD8E48CA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: Max Feinbe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86200" y="1371600"/>
            <a:ext cx="1609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a rutin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rmi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ues de que el va a su dormitorio se 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35053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perta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581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despertarse y soy muy perezoso y muy cans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40575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mar una duc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ndo se despierto se ducho en se bano. se lava con un champ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32004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erse la ro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ues de la tomar una ducha que se   ponerse la r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32763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rar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ues de que el pone su ropa se mira en el espejo de si m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724280" y="1752480"/>
            <a:ext cx="3581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inar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peina el pelo por la manana. Su pelo se ve bien pein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35053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ayuna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ues de,  comer se desayuno en la coc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343400" y="1828800"/>
            <a:ext cx="3657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a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ndo baja las escaleras, se sienta en la m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327636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osta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ues de su largo dia, se acerco a la c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876920" y="1828800"/>
            <a:ext cx="3124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4:40:45Z</dcterms:created>
  <dc:creator>feinbergmax</dc:creator>
  <dc:description/>
  <dc:language>en-US</dc:language>
  <cp:lastModifiedBy>feinbergmax</cp:lastModifiedBy>
  <dcterms:modified xsi:type="dcterms:W3CDTF">2012-04-05T13:28:00Z</dcterms:modified>
  <cp:revision>5</cp:revision>
  <dc:subject/>
  <dc:title>Mi rutina diaria</dc:title>
</cp:coreProperties>
</file>